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jpeg" ContentType="image/jpeg"/>
  <Override PartName="/ppt/media/image20.png" ContentType="image/png"/>
  <Override PartName="/ppt/media/image22.wmf" ContentType="image/x-wmf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160" y="4409280"/>
            <a:ext cx="849132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4409280"/>
            <a:ext cx="4143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84480" y="4409280"/>
            <a:ext cx="4143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160" y="4409280"/>
            <a:ext cx="27338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04160" y="4409280"/>
            <a:ext cx="27338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75160" y="4409280"/>
            <a:ext cx="27338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3160" y="4409280"/>
            <a:ext cx="4143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4480" y="4409280"/>
            <a:ext cx="4143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409280"/>
            <a:ext cx="849132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1218960"/>
            <a:ext cx="7696440" cy="17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ngenital and Perinatal Infection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066320" y="54097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genital Syphilis: Sympto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ymptomatic 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, lymphadenopathy, irritability, failure to thr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undice, hepatosplenomeg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ocutaneous: palmar/plantar bullae, maculopapular rash trunk/limbs, mucosal lesions, condylomata l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emia (BM arrest, hemolysis), thrombocytopenia, low/high WB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uffles” (serous rhin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e changes:  osteochondritis of humerus, ti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genital Syphilis:  Snuff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Picture 3" descr="D:\Documents\Lectures\Infection\snuffles2.jpg"/>
          <p:cNvPicPr/>
          <p:nvPr/>
        </p:nvPicPr>
        <p:blipFill>
          <a:blip r:embed="rId1"/>
          <a:stretch/>
        </p:blipFill>
        <p:spPr>
          <a:xfrm>
            <a:off x="3200400" y="1905120"/>
            <a:ext cx="2916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Documents\Lectures\Infection\congsyphilisrates.gif"/>
          <p:cNvPicPr/>
          <p:nvPr/>
        </p:nvPicPr>
        <p:blipFill>
          <a:blip r:embed="rId1"/>
          <a:stretch/>
        </p:blipFill>
        <p:spPr>
          <a:xfrm>
            <a:off x="1693800" y="533520"/>
            <a:ext cx="5680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genital Syphili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agnostic Studi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itative RP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F exam: cell count, protein, VDR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BC, platelets, liver enzy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bone radio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ion of spirochetes: tissue/fl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V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genital Syphilis: Bone Chang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4" name="Picture 1027" descr="D:\Documents\Lectures\Infection\syphilis2.jpg"/>
          <p:cNvPicPr/>
          <p:nvPr/>
        </p:nvPicPr>
        <p:blipFill>
          <a:blip r:embed="rId1"/>
          <a:stretch/>
        </p:blipFill>
        <p:spPr>
          <a:xfrm>
            <a:off x="2819520" y="1143000"/>
            <a:ext cx="3997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genital Syphilis:  Treatment and Follow-up of the Newbor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ice of regimens for confirmed or probable congenital syphil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icillin G 100-150,000 unit/kg/day x 10-14 days (50,000 unit/kg/dose IV BID x 7 days, then TID for a total of 10 day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aine penicillin G 50,000 unit/kg/day IM once daily x 10 days (may not adequately treat C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icillin is not a suitable altern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PR at 3, 6, 12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cated cases should be referred to speci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genital Rubella: Clinical Finding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ymptomatic: 50% at bi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orineural hearing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al retar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DA, peripheral pulmonic ste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ular: cataracts, chorioretinitis, glauc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ceph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ueberry muffin r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physeal radioluc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genital Rubella:  Vertical Transmis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lacental passage of 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est risk for congenital defects and hearing loss early in the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immune pregnant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immunize during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cases of malformation due to rubella vaccine in women immunized during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exposure to rub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partum vacc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genital Rubella: skin Le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" name="Picture 1027" descr="D:\Documents\Lectures\Infection\rubellacongenital.jpg"/>
          <p:cNvPicPr/>
          <p:nvPr/>
        </p:nvPicPr>
        <p:blipFill>
          <a:blip r:embed="rId1"/>
          <a:stretch/>
        </p:blipFill>
        <p:spPr>
          <a:xfrm>
            <a:off x="1295280" y="1981080"/>
            <a:ext cx="670716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genital Rubella Syndrom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1027" descr="D:\Documents\Lectures\Infection\rubellasyndrome.jpg"/>
          <p:cNvPicPr/>
          <p:nvPr/>
        </p:nvPicPr>
        <p:blipFill>
          <a:blip r:embed="rId1"/>
          <a:stretch/>
        </p:blipFill>
        <p:spPr>
          <a:xfrm>
            <a:off x="1676520" y="1676520"/>
            <a:ext cx="60195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genital Infections: Present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uterine growth retar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ceph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cepha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cranial calc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mbocytop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berry muffin skin ra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patosplenomegaly, conjugated hyperbilirubi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rioretinit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ar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genital Rubella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agnosis and Treat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nosi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bella specific Ig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: nasopharynx, blood, urine, CSF, thro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eatment:  suppor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ytomegalovirus:  Transmis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rtical trans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lacental and perinatal acqui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ernal primary and reactivated CM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cidenc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re asymptomatic - 9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ytomegalovirus:  Clinical Findings In Symptomatic Infa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cephaly, intracranial calc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mbocytopenia, petechiae, purp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jugated hyperbilirubinemia, elevated liver enzymes, liver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stitial pneumon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ing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al retar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rologic impairment, cerebral pal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rioretinit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stinal pseudo-obstruction like ill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MV:  Calcific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2" name="Picture 3" descr="D:\Documents\Lectures\Infection\CMV_Calcification2.jpg"/>
          <p:cNvPicPr/>
          <p:nvPr/>
        </p:nvPicPr>
        <p:blipFill>
          <a:blip r:embed="rId1"/>
          <a:stretch/>
        </p:blipFill>
        <p:spPr>
          <a:xfrm>
            <a:off x="1600200" y="1905120"/>
            <a:ext cx="60958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MV:  Hydrocephalus, Calcific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Picture 1027" descr="D:\Documents\Lectures\Infection\CMVhydroCa.jpg"/>
          <p:cNvPicPr/>
          <p:nvPr/>
        </p:nvPicPr>
        <p:blipFill>
          <a:blip r:embed="rId1"/>
          <a:stretch/>
        </p:blipFill>
        <p:spPr>
          <a:xfrm>
            <a:off x="1905120" y="1600200"/>
            <a:ext cx="518292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ytomegalovirus:  Diagnosi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MV titers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M, Ig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and convales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rine culture for CM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retion may be intermit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NS imag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ye ex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ytomegalovirus:  Treat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ppor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telet trans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-viral treat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nciclovir may reduce sequelae, but of limited effic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MV hyperimmune globul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fectious disease consul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ymphocytic choriomeningitis viru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navirus, shed by ro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in adults:  influenza like illness - fever, malaise, myalgia, retro-orbital headache, photopho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enital infection: hydrocephalus, chorioretinitis, intracranial calcifications, microcephaly, mental retardation, neurologic sequelae, visual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:  culture, acute and convalescent ti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:  suppor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ymphocytic Choriomeningitis Virus -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ydrocephalu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Picture 3" descr="D:\Documents\Lectures\Infection\lymphchoriretvirushydroceph.jpg"/>
          <p:cNvPicPr/>
          <p:nvPr/>
        </p:nvPicPr>
        <p:blipFill>
          <a:blip r:embed="rId1"/>
          <a:stretch/>
        </p:blipFill>
        <p:spPr>
          <a:xfrm>
            <a:off x="685800" y="2286000"/>
            <a:ext cx="76960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rvovirus B19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sociated with multiple disorder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ythema infectiosum (fifth dise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lastic crisis (hemolytic disorders, sickle ce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anemia in immunosup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arthr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etal hydrops and death due to anem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?)Efficacy of intrauterine trans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ntaneous recovery of fetal hydrops can occ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lueberry Muffin Skin Rash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" name="Picture 3" descr="_x0016_blueberrymuffinCMV.jpg                                         00000010_x000c_Macintosh HD                   ABA78158:"/>
          <p:cNvPicPr/>
          <p:nvPr/>
        </p:nvPicPr>
        <p:blipFill>
          <a:blip r:embed="rId1"/>
          <a:stretch/>
        </p:blipFill>
        <p:spPr>
          <a:xfrm>
            <a:off x="1981080" y="1981080"/>
            <a:ext cx="558972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26" descr="D:\Documents\Lectures\Infection\parvoB19fetalUS.gif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ricell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nal varicella before 20 weeks: congenital anomalies reported to be 1-2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catricial skin le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b hypopl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NS, ocular, neuro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nal varicella in last 5 days of pregnancy to 2 days post partu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ZIG 125 units IM indicated in exposed inf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in lesions, pneumonitis, dissemination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acyclovir if signs or symptoms devel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genital varicell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" name="Picture 3" descr="D:\Documents\Lectures\Infection\varicellacongenital.jpg"/>
          <p:cNvPicPr/>
          <p:nvPr/>
        </p:nvPicPr>
        <p:blipFill>
          <a:blip r:embed="rId1"/>
          <a:stretch/>
        </p:blipFill>
        <p:spPr>
          <a:xfrm>
            <a:off x="1447920" y="1752480"/>
            <a:ext cx="655308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ricella:  perinatally acquir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" name="Picture 1027" descr="D:\Documents\Lectures\Infection\varicella_8.jpg"/>
          <p:cNvPicPr/>
          <p:nvPr/>
        </p:nvPicPr>
        <p:blipFill>
          <a:blip r:embed="rId1"/>
          <a:stretch/>
        </p:blipFill>
        <p:spPr>
          <a:xfrm>
            <a:off x="304920" y="2362320"/>
            <a:ext cx="4495680" cy="34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28" descr="D:\Documents\Lectures\Infection\Var4L.jpg"/>
          <p:cNvPicPr/>
          <p:nvPr/>
        </p:nvPicPr>
        <p:blipFill>
          <a:blip r:embed="rId2"/>
          <a:stretch/>
        </p:blipFill>
        <p:spPr>
          <a:xfrm>
            <a:off x="4952880" y="2133720"/>
            <a:ext cx="381024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erinatally Acquired Infection: Basic Princ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ernal colonization or infection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niotic fl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ital tract secr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skin contact,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ing and duration of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tions, prophyl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rpes Simplex:  Epidemiolog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ical transmission most 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natal exposure with ROM and deli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% risk if infant exposed to primary maternal HS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1-5% risk if infant exposed to recurrent maternal HS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risk in premature infants (reduced Ig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-section reduces risk if ROM &lt; 4-6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izontal transmission re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rsery outbrea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of onset: 2 days - several w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rpes Simplex: Clinical 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kin vesicl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cephalit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izur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piratory distress, pneumo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patit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tic shock like syndr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rpes Simplex Skin Le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" name="Picture 3" descr="D:\Documents\Lectures\Infection\herpes_neonatal.jpg"/>
          <p:cNvPicPr/>
          <p:nvPr/>
        </p:nvPicPr>
        <p:blipFill>
          <a:blip r:embed="rId1"/>
          <a:stretch/>
        </p:blipFill>
        <p:spPr>
          <a:xfrm>
            <a:off x="1295280" y="1981080"/>
            <a:ext cx="6612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rpes Simplex Skin Le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" name="Picture 3" descr="D:\Documents\Lectures\Infection\HSVcluster.gif"/>
          <p:cNvPicPr/>
          <p:nvPr/>
        </p:nvPicPr>
        <p:blipFill>
          <a:blip r:embed="rId1"/>
          <a:stretch/>
        </p:blipFill>
        <p:spPr>
          <a:xfrm>
            <a:off x="1905120" y="1752480"/>
            <a:ext cx="54100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rpes Simplex Skin Le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4" name="Picture 3" descr="D:\Documents\Lectures\Infection\HSVscalp-1.jpg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tiologies of Congenital Infec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xoplasmos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phil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bel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tomegalovir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pes simple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mphocytic choriomeningitis 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vovirus B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c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rpes Simplex Conjunctiviti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" name="Picture 3" descr="D:\Documents\Lectures\Infection\HSVeye.jpg"/>
          <p:cNvPicPr/>
          <p:nvPr/>
        </p:nvPicPr>
        <p:blipFill>
          <a:blip r:embed="rId1"/>
          <a:stretch/>
        </p:blipFill>
        <p:spPr>
          <a:xfrm>
            <a:off x="160020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rpes Simplex Oral Le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8" name="Picture 3" descr="D:\Documents\Lectures\Infection\HSVoralinfant.gif"/>
          <p:cNvPicPr/>
          <p:nvPr/>
        </p:nvPicPr>
        <p:blipFill>
          <a:blip r:embed="rId1"/>
          <a:stretch/>
        </p:blipFill>
        <p:spPr>
          <a:xfrm>
            <a:off x="2057400" y="1905120"/>
            <a:ext cx="472428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rpes Simplex: Encephaliti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0" name="Picture 3" descr="D:\Documents\Lectures\Infection\HSVencephalitisCT.gif"/>
          <p:cNvPicPr/>
          <p:nvPr/>
        </p:nvPicPr>
        <p:blipFill>
          <a:blip r:embed="rId1"/>
          <a:stretch/>
        </p:blipFill>
        <p:spPr>
          <a:xfrm>
            <a:off x="1828800" y="2057400"/>
            <a:ext cx="533412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onatal Herpes Simplex:  Treat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yclovir 60 mg/kg/day divided q 8 hr x 14 days (21 days for systemic or C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ular HSV: add ophthalmic trifluridine, iododeoxyuridine, or vidarab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ve: control seizures, respiratory and cardiovascular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cutaneous or ocular sp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mortality rate for CNS or systemic HSV, even with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nagement of HSV Exposur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current maternal HS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k is very low; observation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ary maternal dis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k is 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al throat culture at 24-48 hr of 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iric therapy is controvers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mature infant - risk may be grea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IV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nsmission is verti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utero, intrapartum (most common), and postnatal (breastfeed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sk fac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Zidovudine (AZT) for reduction of perinatal HIV transmiss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gnancy:  begin 200 mg PO 3x/day at 14-34 wk, continue throughout pregnan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apartum:  2 mg/kg x 1 h, then 1 mg/kg/h IV until deliv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born:  2 mg/kg 4x/day PO begining at 8-12 h of age until 6 weeks of 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ferral to pediatric HIV cen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IV:  perinatal prophylaxi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dec" pos="6392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uction of vertical transmission with AZT as compared to placebo in women with mildly symptomatic dis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dec" pos="6392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or EM et al.  NEMJ 1994;331:117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dec" pos="6392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ceb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5.5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dec" pos="6392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natal, intrapartum, postnata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.3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IV:  Benefit persists even with abbreviated prophylaxi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NA PCR on HIV exposed infants with incomplete prophylaxi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de NA et al. NEJM 1998;339:14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nata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1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apartu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.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&lt; 48 h postnata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9.3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&gt; 48 h postnata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.4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IV:  mode of delive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nalysis of 15 NA/European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533 mother-child pai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usted for antiretroviral Rx, maternal stage of disease and birth we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ve C-section:  prior to labor or 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 Perinatal HIV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JM 1999;340:97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agnosis of Congenital Infection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eneral Tes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/direct bilirubin, liver enzy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Ig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e radio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F ex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 ex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NS im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IV:  mode of delive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dec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mode (vag, non-elective C/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16.7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dec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ve C-section                                  8.4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dec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mode, complete retroviral R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7.3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dec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ve C/S, complete retroviral Rx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dec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 Perinatal HIV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dec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JM 1999;340:97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epatitis B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rtical trans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exposure during labor and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utero transmission:  &lt; 2% of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ternal HBsAg+ HBeAg+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0-8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ternal HBsAg+ HBeAg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-2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onic carrier, hepatitis, cirrhosis, hepatocellular carcino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fant born to HBsAg + mother:  manage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skin to skin until infant bat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patitis B vaccine within 12 h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IG given at separate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standard HBV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term &lt; 2 kg: 1st dose not counted, total 4 d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sAg and anti-HBsAg at 9-15 months of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st feeding not precluded: controvers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fant born to HBsAg unknown mother:  manage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skin to skin until infant bat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BV within 12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mother HBsAg +, HBIG within 7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ature infant &lt; 2 kg: give both HBV and HBIG within 12 hours, if unable to determine maternal status by 12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standard HBV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term &lt; 2 kg: 1st dose not counted, total 4 d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epatitis 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alence in adults in U.S. - 1.8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ical transmission - 5% of infants born to mothers with hepatitis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pecific preventive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st feeding is allow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ssion not pro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acked or bleeding nipples: may be r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infant at 18 months:  anti-HC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ier testing with HCV RNA PC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nteroviru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ly occurs in summer and fall sea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y of maternal illness late in pregn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natal vertical transmission from mother to inf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breaks reported in NICU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s in the first 2 wee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natal symptoms: fever, lethargy, poor feeding, respiratory di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syndromes: aseptic meningitis, “sepsis,” cardiomyopathy, hepatitis, pneumonia, pulmonary hyper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tiology of Early Onset Sepsi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oup B Strep (GBS):  67%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n-GBS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Coli: 2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s: 8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ococcus,  staph aureus, strep pneumonia, candi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pidemiology of Group B Stre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ternal Colonization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5-4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0-75% of newborns born to colonized mothers become colonized during bi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tack Rate (# infected nb/# colonized mothers)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-2%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onatal Early Onset Disea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4 per 1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isk Factors for Neonatal Infection in Colonized Mothe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rupture of membranes &gt; 18 h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ature birth esp &lt; 34 wee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apartum 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-American 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ernal age &lt; 20 y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ious birth of GBS infected inf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maternal colonization, e.g. bacteru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levels of anti-GBS capsular anti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ternal GBS Disea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nionit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dometrit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und inf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agnosis of Congenital Infection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ecific Tes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oplasmosis IgM, Ig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P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bella Ig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bella culture:  eye, urine, nasopharyn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e culture for CM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pes simplex IgM, Ig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F:  routine studies, quantitative VDRL, HSV PC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vovirus B19 PC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ymphocytic choriomeningitis virus: infant IgM and IgG, mother Ig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onatal GBS Disea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Onset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atic infection occurring during 1st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from vertical transmission during labor or deli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tutes 80% of neonatal GBS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neumonia and overwhelming sepsis more 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evention of early onset group B strep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BS is sensitive to Ampicillin and Penicil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lure of prenatal administration of Amp/PCN to eradicate col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lure of immediate postnatal treatment with Penicil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treatment efficacy in several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morbidity from Penicillin resistant organisms in on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evention of early onset group B strep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 success at maternal treatment is intrapartum antibiotic prophylax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yer and Gottof, 198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maternal colo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neonatal colo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attack rate of GBS by 80-9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n et al, meta-analysis, 1993: 30 fold decrease in neonatal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rategies to Reduce GBS Disea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AP, 19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-28 week cultures of all pregnant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apartum prophylaxis f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 cul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 &gt; 12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et of labor or ROM &lt; 37 w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partum 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ious birth of an infant with GBS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treat approx 3.4% of all mothers, to prevent 50% of Early Onset GB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rategies to Reduce GBS Disea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hylaxis f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term labor &lt; 37 w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 &lt; 37 w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 &gt; 18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ious child with GBS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nal fever during l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cultures not included in deci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treat approximately 18.3% of mothers and prevent 68.8% of early onset GB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isks of Maternal Treatment -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not treat all mothers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al anaphylaxis to Ampicillin: 1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eudomembraneous enterocolitis (Clostridium difici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idence of other less severe maternal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k of antibiotic resistance among GBS or other org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ailures of GBS Prophylaxi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te administration of intrapartum antibiotic prophylaxis (&lt; 4 hr before birt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adequate do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ilure to recognize mothers at ri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hylaxis Failur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ce of hospital guide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illance study,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5 hospitals survey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6 (58%) had established departmental guidelines for maternal prophyl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early onset GBS incidence in hospitals with guide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58/1000 vs 1.29/1000 (p=.00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71800" y="6203880"/>
            <a:ext cx="44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Factor SE, et al, OB GYN 2000;95:377-82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ailures of Intrapartum Prophylaxi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DC study 1998-1999; 629,912 birth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12 infants with GBS early onset sepsis (0.5/1000 birth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2% had no maternal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2% of women were screened for G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lative Risk of neonatal GBS in screened vs risk based approach was 0.48 (0.38-0.6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72600" y="6203880"/>
            <a:ext cx="41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Schrag SJ, et al, NEJM 2002;347:233-9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ailure of Intrapartum Prophylaxi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sons for failure of risk-based approach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idence of GBS colonization in mothers who have no risk factors on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lure of identification of risk factors when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26" descr="D:\Documents\Lectures\Infection\toxotransmission in color.jpg"/>
          <p:cNvPicPr/>
          <p:nvPr/>
        </p:nvPicPr>
        <p:blipFill>
          <a:blip r:embed="rId1"/>
          <a:stretch/>
        </p:blipFill>
        <p:spPr>
          <a:xfrm>
            <a:off x="1828800" y="914400"/>
            <a:ext cx="559260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27"/>
          <p:cNvSpPr/>
          <p:nvPr/>
        </p:nvSpPr>
        <p:spPr>
          <a:xfrm>
            <a:off x="533520" y="152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How Toxoplasmosis is Transmitt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DC Guidelines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Updated 20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regnant women should be cultured at 35-37 weeks ge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icillin prophylaxis preferred, due to narrow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hylaxis recommended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 cervical culture for G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BS bacteruria during ge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ious infant born with invasive GBS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factors in absence of culture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station &lt; 37 w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M &gt; 18 h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hylaxis not needed for Cesarean sections for culture positive  mothers with intact membr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hange in Epidemiology of Early Onset Sepsi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es widespread use of Intrapartum Antibiotic Prophylaxis lead to emergence of resistant organism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oll B, et al, Changes in Pathogens Causing Early Onset Sepsis in Very Low Birthweight Infants, NEJM 2002;347:240-7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67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447 VLBW infants born 1998-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d to 7606 VLBW infants born 1991-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Rectangle 4"/>
          <p:cNvGrpSpPr/>
          <p:nvPr/>
        </p:nvGrpSpPr>
        <p:grpSpPr>
          <a:xfrm>
            <a:off x="4800600" y="1981080"/>
            <a:ext cx="3429000" cy="4552920"/>
            <a:chOff x="4800600" y="1981080"/>
            <a:chExt cx="3429000" cy="4552920"/>
          </a:xfrm>
        </p:grpSpPr>
        <p:sp>
          <p:nvSpPr>
            <p:cNvPr id="184" name="Rectangle 5"/>
            <p:cNvSpPr/>
            <p:nvPr/>
          </p:nvSpPr>
          <p:spPr>
            <a:xfrm>
              <a:off x="7200720" y="5527800"/>
              <a:ext cx="102852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5.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Times New Roman"/>
                </a:rPr>
                <a:t>N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Rectangle 6"/>
            <p:cNvSpPr/>
            <p:nvPr/>
          </p:nvSpPr>
          <p:spPr>
            <a:xfrm>
              <a:off x="6171840" y="5527800"/>
              <a:ext cx="102852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9.3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4800600" y="5527800"/>
              <a:ext cx="137124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Total early onset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Rectangle 8"/>
            <p:cNvSpPr/>
            <p:nvPr/>
          </p:nvSpPr>
          <p:spPr>
            <a:xfrm>
              <a:off x="7200720" y="4520880"/>
              <a:ext cx="10285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6.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Times New Roman"/>
                </a:rPr>
                <a:t>P=.004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" name="Rectangle 9"/>
            <p:cNvSpPr/>
            <p:nvPr/>
          </p:nvSpPr>
          <p:spPr>
            <a:xfrm>
              <a:off x="6171840" y="4520880"/>
              <a:ext cx="10285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3.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Rectangle 10"/>
            <p:cNvSpPr/>
            <p:nvPr/>
          </p:nvSpPr>
          <p:spPr>
            <a:xfrm>
              <a:off x="4800600" y="4520880"/>
              <a:ext cx="137124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E. Coli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Rectangle 11"/>
            <p:cNvSpPr/>
            <p:nvPr/>
          </p:nvSpPr>
          <p:spPr>
            <a:xfrm>
              <a:off x="7200720" y="3513600"/>
              <a:ext cx="10285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.7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Times New Roman"/>
                </a:rPr>
                <a:t>P&lt;.001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" name="Rectangle 12"/>
            <p:cNvSpPr/>
            <p:nvPr/>
          </p:nvSpPr>
          <p:spPr>
            <a:xfrm>
              <a:off x="6171840" y="3513600"/>
              <a:ext cx="10285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5.9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Rectangle 13"/>
            <p:cNvSpPr/>
            <p:nvPr/>
          </p:nvSpPr>
          <p:spPr>
            <a:xfrm>
              <a:off x="4800600" y="3513600"/>
              <a:ext cx="137124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GB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Rectangle 14"/>
            <p:cNvSpPr/>
            <p:nvPr/>
          </p:nvSpPr>
          <p:spPr>
            <a:xfrm>
              <a:off x="7200720" y="1981080"/>
              <a:ext cx="1028520" cy="15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98-0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Inf./1000 live birth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Rectangle 15"/>
            <p:cNvSpPr/>
            <p:nvPr/>
          </p:nvSpPr>
          <p:spPr>
            <a:xfrm>
              <a:off x="6171840" y="1981080"/>
              <a:ext cx="1028520" cy="15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91-93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Inf./1000 live birth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Rectangle 16"/>
            <p:cNvSpPr/>
            <p:nvPr/>
          </p:nvSpPr>
          <p:spPr>
            <a:xfrm>
              <a:off x="4800600" y="1981080"/>
              <a:ext cx="1371240" cy="15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Line 17"/>
            <p:cNvSpPr/>
            <p:nvPr/>
          </p:nvSpPr>
          <p:spPr>
            <a:xfrm>
              <a:off x="4800600" y="1981080"/>
              <a:ext cx="342900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Line 18"/>
            <p:cNvSpPr/>
            <p:nvPr/>
          </p:nvSpPr>
          <p:spPr>
            <a:xfrm>
              <a:off x="4800600" y="3513600"/>
              <a:ext cx="34290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Line 19"/>
            <p:cNvSpPr/>
            <p:nvPr/>
          </p:nvSpPr>
          <p:spPr>
            <a:xfrm>
              <a:off x="4800600" y="4520880"/>
              <a:ext cx="34290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Line 20"/>
            <p:cNvSpPr/>
            <p:nvPr/>
          </p:nvSpPr>
          <p:spPr>
            <a:xfrm>
              <a:off x="4800600" y="6534000"/>
              <a:ext cx="342900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" name="Line 21"/>
            <p:cNvSpPr/>
            <p:nvPr/>
          </p:nvSpPr>
          <p:spPr>
            <a:xfrm>
              <a:off x="4800600" y="1981080"/>
              <a:ext cx="0" cy="455292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Line 22"/>
            <p:cNvSpPr/>
            <p:nvPr/>
          </p:nvSpPr>
          <p:spPr>
            <a:xfrm>
              <a:off x="6171840" y="1981080"/>
              <a:ext cx="0" cy="45529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Line 23"/>
            <p:cNvSpPr/>
            <p:nvPr/>
          </p:nvSpPr>
          <p:spPr>
            <a:xfrm>
              <a:off x="7200720" y="1981080"/>
              <a:ext cx="0" cy="45529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Line 24"/>
            <p:cNvSpPr/>
            <p:nvPr/>
          </p:nvSpPr>
          <p:spPr>
            <a:xfrm>
              <a:off x="8229600" y="1981080"/>
              <a:ext cx="0" cy="455292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Line 25"/>
            <p:cNvSpPr/>
            <p:nvPr/>
          </p:nvSpPr>
          <p:spPr>
            <a:xfrm>
              <a:off x="4800600" y="5527800"/>
              <a:ext cx="34290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planations for Ampicillin Resista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ion of resistant organisms from maternal GU tr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ecially in preterm inf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in NICU resistance patter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in resistance patterns of ambulatory pati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in general resistance patter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yde T, et al, Trends in Incidence and Antimicrobial Resistance of Early-onset Sepsis: Population Based Surveillance in San Francisco and Atlanta, Ped 2002;110:690-5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DC Emerging Infection Program Network, 1998-2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hospitals with a delivery service in 3 county area of San Francisco (39,76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10 birthing hospitals in the 8 county Atlanta area (42, 96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yde et al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arly Onset Sepsis</a:t>
            </a:r>
            <a:br>
              <a:rPr sz="32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positive blood culture in 1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7 days of life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40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66/408 (40.7%) were G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0/409 (17.2%) were E. Col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change in E. Coli or GBS rates over the 3 yr peri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8% of ampicillin resistant organisms were in prem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ging Epidemiology of Early Onset Sepsi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rm deliver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9 million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idence of early onset sepsis: 1/1000 live bir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900 term infants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biotic resistance does not appear to be a problem in term inf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ging Epidemiology of Early Onset Sepsi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LBW Inf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,000 births/yr &lt; 1500 g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 of Early Onset Sepsis: 15/1000 (Stoll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0 preterm infants/y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iotic resistance is a problem in VLBW inf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GBS prophylaxis vs background changes in microbial resistance patter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egies to prevent GBS must address the majority of susceptible infants (5 out of every 6 susceptible infants is ter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egies must reflect the potential for resistance in preterm inf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nagement of Newborn Whose Mother Received Prophylaxi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491320" cy="41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tic evaluation and empiric antibiotics i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s and symptoms of sep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 35 weeks ge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Evaluation and 48 hr observation i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 of prophylaxis &lt; 4 hr before deli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ymptomatic inf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valuation, but 48 hr observation if: &gt; 4 hr antibiotics prophyl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57200" y="6095880"/>
            <a:ext cx="784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iagnostic Eval:  CBC, Diff, Bld Cult, plus CXR, LP etc, as indicated Limited Eval:  CBC, diff and Bld Cul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Object 0"/>
          <p:cNvGraphicFramePr/>
          <p:nvPr/>
        </p:nvGraphicFramePr>
        <p:xfrm>
          <a:off x="1905120" y="0"/>
          <a:ext cx="5715000" cy="674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0"/>
                    <a:ext cx="5715000" cy="67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xoplasmosi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xoplasma gondii, protozoan, cats are h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0-90% asymptoma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: maculopapular rash, thrombocytopenia, lymphadenopathy, hepatomegaly, splenomegaly, jaundice, hydrocephalus, microcephaly, chorioretinitis, seizures, deaf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: IgM, IgG, intracranial calc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:  pyrimethamine, sulfadiaz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s an LP necessary in evaluation for sepsis in the newborn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meningitis in absence of positive blood cultures or CNS 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swell et 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yr review of U.S. Army Hospitals; 169,849 bir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 of meningitis: 0.25/1000 live bir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/43 (19%) were term infants with no CNS symptoms and negative blood cul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70960" y="6280200"/>
            <a:ext cx="39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Wiswell TE et al, Ped 1995;95:803-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s an LP necessary in evaluation for sepsis in the newborn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nalysis of 6 papers excluding Wiswell et 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913 LP’s successfully perfor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 cases of culture positive meningitis (259 LP’s per case of mening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/19 cases had positive blood cul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us, 1638 successful LP’s are needed to diagnose one case of meningitis in the absence of a positive blood 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ter blood culture technique lessens the need for LP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lood Culture Techniqu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ropriate prep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 seconds vs 10 seconds x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ropriate volum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least 1 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tain from peripheral stick and central line if line is in more than 12 h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uration of Antibioti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negative blood cultures conclusive when the mother has received IA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cillary te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B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trope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:T ra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41280" y="639360"/>
            <a:ext cx="75470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-Reactive Protein in Suspected Sepsi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P performed on 2 successive days in early onset sep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sitivit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8.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it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3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tive predictive abilit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6.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gative predictive abilit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9.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episodes where CRP was positive, only 6% turned out to have sep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episodes where CRP was negative, 99.7% did not have sep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57200" y="652140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Benitz et al, Ped, 1998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cision to stop antibioti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blood cultures at 48-72 h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of mild severity (tachypnea, brief O2 dependency, poor feed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/C antibiotics and observe 24-48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moderate-severe symptoms – decision to D/C or continue antibiotics depends on other fac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chorioamniot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d CR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tropenia or elevated I:T rati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socomial infection in the NICU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organism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agulase negative staphylococc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agulase positive staphylococc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m negatives: E coli, Klebsiella, Enterobacter, Serratia, Pseudomon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dida albicans, parapsi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isk factors for nosocomial infec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ation of inser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of catheter: Broviac, sila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ilation, endotracheal intub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sure to antibio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gical procedures: intest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intravenous lip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rategies to reduce nosocomial infec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 central lines AS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 entries into central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tions via P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 number of ports into central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ports rather than stopc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handwa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care, suctioning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 use of IV lip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mpiric treatment of suspected nosocomial sepsi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picillin and gentamic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picillin and cefotax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ncomycin and gentamic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ncomycin and cefotax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xoplasmosis: Chorioretiniti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3" descr="D:\Documents\Lectures\Infection\CongenitalToxoEye.jpg"/>
          <p:cNvPicPr/>
          <p:nvPr/>
        </p:nvPicPr>
        <p:blipFill>
          <a:blip r:embed="rId1"/>
          <a:stretch/>
        </p:blipFill>
        <p:spPr>
          <a:xfrm>
            <a:off x="2438280" y="1600200"/>
            <a:ext cx="4624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05:48:21Z</dcterms:created>
  <dc:creator>Arthur E. D'Harlingue</dc:creator>
  <dc:description/>
  <dc:language>en-US</dc:language>
  <cp:lastModifiedBy>HCMARTINEZ</cp:lastModifiedBy>
  <dcterms:modified xsi:type="dcterms:W3CDTF">2010-06-14T23:24:17Z</dcterms:modified>
  <cp:revision>34</cp:revision>
  <dc:subject/>
  <dc:title>Congenital, perinatal, and postnatal infection</dc:title>
</cp:coreProperties>
</file>